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13C38-CC76-4F56-972D-1E7A7EFFF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 = 100 m, time = 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=d/t  s=100m/20s  s=5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37EF4-BA4F-4C16-A990-B09830F82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C308E-2086-4C13-A3EF-A1F5836B5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nstant mean? Think about driving- slowing down, stopping at lights, etc. Running- slowing down, taking a break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3FDD4-1811-44C1-BCDE-5EBBAA4E7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53BE6-5C78-4412-BAE4-4AF4FE200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class observe me as I carry a ball, then toss a ball in the air, and then doing both at the sam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 class if they have ever noticed that they feel like they’re moving when they’re sitting at a traffic light. Explain sitting on a train/plane and relative motion compared to the outside of the train/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4105E-3645-48D0-914E-FFAB26B68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person jumps over an object, both his horizontal and vertical positions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a in an airplane will think of his or her seat not moving, but an observer on the ground will think the seats are moving with the air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2A707-D617-44E9-ACAA-97E27D83A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defining speed, explain that speed is a RATE. A rate is something that changes in comparison to something else. Ask the class what else is an example of a rate. (Heart rate, fuel efficiency of cars (mpg), etc) Then tell them to go back to first slide. Is a rate a vector or scalar? (VECTOR- size and 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5D551-C9C5-4CD9-968C-DE74A58A6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31A-B7BB-416C-9E0A-6F9745BF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4B0-046B-4BCE-B268-C247679A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7A4-B817-4C2C-8825-7367CCCC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E6B-A359-4E35-9CD4-89A08004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247D-DB32-4109-B2C3-ED888DB5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CCC3-45E4-4A94-8AA8-7C494AD7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1BE3-7221-4577-B4A6-2EB5E149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F2EE-25FD-471B-9D76-F1B9AD5B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9CFE-10AC-45C7-A68E-BFB84A93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50F7-D077-41B9-ACD5-4F9E26E9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3B07-814A-4CBF-A10D-EC86AF55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09B-1655-4A49-A2D5-D2606268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2975-8C9B-465F-A9B5-97E000B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F4FA-239A-4D67-B222-4520BDB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EBB4-7F84-490D-ACEE-1B53603A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C269-CBD2-4A01-AA25-F11B0042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658B-951A-4DD5-9303-3971B547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7EA9-313E-41F6-BFDC-FB04CBED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A900-80E8-4500-ACB5-58EBAD54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DB8B-B36E-4A4F-B3ED-F29DA4AB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F975F-66EA-43CA-914E-FE2B14D3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A05D-78D8-4052-BC84-4F58F697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66F-479B-4E4C-8CAF-7A16EC90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EFBD-222B-4999-A3B2-AC4DE2C0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F984-B28C-4208-9D4F-D78AA730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D53F-BA95-4153-9C44-45AFAA98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D7C7-8998-41D3-A559-C6E3DFBB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C6005-A4CF-4D5F-B137-B2589E2F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A9008-C8CA-4C1D-A835-522A7D32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6640-C8D1-4F31-B3ED-7C487C4A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8044E-2187-4D33-BCCA-F3CFEF3D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6D071-BBA4-4FC3-AA6C-B7913CE8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9893A-9CBA-48D1-9040-85D0CB58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E9F-B05A-4850-A6EE-032A83A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8B4FF-B523-4636-AA59-F4226E30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EF18-C2C2-4014-9C87-C0B7C4CA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410C-49FB-4A79-9A14-104996B2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22DB-FF6D-4144-96F8-6B959399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7AD2-9107-42B5-BD9E-A1B3112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BCD0-A43C-491A-8859-2D7672B8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DA866-7982-42A7-A6A5-C94F33B0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B3CF2-0BB0-4862-9B2C-D70571D0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D667-2DC6-412C-8F43-1DC2DD58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2F1-FD25-4EEB-A061-CF441BD6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89E-38BE-4DF6-9693-C347EA12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7CA-5C78-4CEB-AFB5-65FA31E2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3AA-F6B3-4255-BB4D-52D59DF7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8E1-5CDF-4167-9B89-CF7B5605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16403-9160-4AA0-B360-C7FDE2D584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6ECE7-37DA-4E6B-A268-19816204440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19FAE-32C4-40FD-A5EC-FAE64807701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64910-F18B-4628-9FD4-81D630ECCE5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933480" y="1011240"/>
            <a:ext cx="82342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8752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SPEED: SAMPLE PROBLEM</a:t>
            </a: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14360" y="1276200"/>
            <a:ext cx="80215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acer completes a 100-meter course in 20 seconds. What is his spee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ust like in math, we are going to use KQ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we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you want to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write the formula, then substitute the values yo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into the formula. Calculate and simplify, 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’t forget your units of measu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452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SPEED: Practice Problem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44520" y="1725480"/>
            <a:ext cx="79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 man runs 200 m in 25 s. What is his speed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f you travel 100 m in 50 s, what is your speed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82280" y="132840"/>
            <a:ext cx="4830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Average Speed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7680" y="1417320"/>
            <a:ext cx="800568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ed is NOT CONSTAN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ed from moment to moment (at any given time) is called instantaneous speed, and is hard to calculate, so we calculate average speed over a certain dist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: a runner has different speeds on each lap he runs in a 1600m (4 lap) race: 83 s, 81 s, 79 s, 77 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ulate the total time (320 s) for the entire distance of 1600 m. The average speed would be 1600m/320s = 5.0 m/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12520" y="132840"/>
            <a:ext cx="2968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Velocity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417680"/>
            <a:ext cx="833292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irection of motion can be as important as sp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locity = speed in a SPECIFIC DIR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: Walking EAST at a speed of 3m/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person walking NORTH at a speed of 3m/s would have the same speed but a different veloc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determine velocity you need to know speed and direction. A change in either SPEED OR DIRECTION (or both) changes the velocity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40920" y="132840"/>
            <a:ext cx="6970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Distance-Time Graph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275840"/>
            <a:ext cx="3527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ing a graph that plots the distance against time is the best way to show motion of an object. This is called a distance-time grap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ME is ALWAYS on the horizontal axis (x-axis) and DISTANCE is ALWAYS on the vertical axis (y-axi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3373560" y="1612800"/>
            <a:ext cx="5770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4360" y="12024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ulating Speed from a Grap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3000" y="1542960"/>
            <a:ext cx="74451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 an object moves, the distance it travels INCREASES with time. This can be seen as a climbing or rising line on the grap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FLAT (or horizontal) line shows an interval of time where the speed is 0 m/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EEPER lines show intervals where speed is greater than intervals with less steep lin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lope is equal to SPE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925560" y="941400"/>
            <a:ext cx="7148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8120" y="1104840"/>
            <a:ext cx="28512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Distance-Time Graph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3260880" y="149400"/>
            <a:ext cx="539100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do you describe the location of an object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4960" y="1958760"/>
            <a:ext cx="81518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ose an object in the classro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OU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ointing to, describing, or naming the object, give directions to your lab partner for finding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k your lab partner to identify the object using your directions. If your lab partner can’t locate it, keep trying giving different dire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kind of information did you have to give your lab partn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12880" y="39240"/>
            <a:ext cx="338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Position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417680"/>
            <a:ext cx="82296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ITION = LOCATION (can be a place or objec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you describe position, you COMPARE the location with another object or pl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location that you compare your object or place’s position to is called the REFERENCE POI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: New York City is about 695 km SW of Sanford, N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can also describe position by using coordinates of LONGITUDE and LATITU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: you can plot New York and Sanford on a map using longitude and latitude coordin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0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Motion and Relative Motion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244520"/>
            <a:ext cx="84358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TION = CHANGE of position over tim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n be vertical or horizontal, or bo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quickly or slowly the position changes depends on the object’s SPE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motion is observed depends upon the observer’s point of view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ATIVE MOTION = the motion of an object relative to an observ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: A bus driver would say the stop sign he is approaching is changing position; a person standing on the sidewalk waiting for the bus would say the bus is changing posi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Let’s Review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009880"/>
            <a:ext cx="84708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nformation do you need to describe an object’s loc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how your position changes as you jump over an obj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ive an example of how the apparent motion of an object depends on the observer’s mo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65600" y="11700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SPEED!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17240" y="1260000"/>
            <a:ext cx="842148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sition can change at different r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describe change in position in two ways: in terms of DISTANCE or TIM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t’s say someone asks you how far it is from Sanford to Raleigh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you describe in terms of distance, you would say about 40 mi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you describe with time, you have to take TWO things into account: the distance it takes to get there, and the person’s sp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EED = the DISTANCE something moves in a given amount of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reater the speed an object has, the faster it changes pos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87600" y="132840"/>
            <a:ext cx="565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Calculating Speed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06440" y="1275840"/>
            <a:ext cx="8315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calculate speed, you need to know both distance and time measure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o bikes start at the same point at the same ti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1 second, the first bike has traveled 4 meters, and the second bike has traveled only 2 meter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cause the first bike traveled 4 meters in 1 sec, it has a speed of 4 m/sec. The second bike has a speed of 2m/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each bike continues moving at the same speed as before, then after two seconds the first bike would have traveled 8 meters. The second bike would have traveled 4 me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far will each bike have traveled in 5 seconds? What formula did you use to figure that out?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33400" y="132840"/>
            <a:ext cx="62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Calculating Speed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14000" y="1417680"/>
            <a:ext cx="849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ed 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istan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OR    S =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m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ormula shows how distance, time, and speed are rel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, if two objects travel the same distance, the object that took a shorter amount of time will have the greater sp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 that means an object with a greater speed will travel a LONGER distance in the same amount of time than an object with a lower speed wi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1040" y="132840"/>
            <a:ext cx="5805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Calculating Speed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30360" y="1417680"/>
            <a:ext cx="79610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standard unit for speed is meters per second (m/s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can also be given in kilometers per hour (km/h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 the US, we say miles per hour (mph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3:03:32Z</dcterms:created>
  <dc:creator>Stephanie Coggins</dc:creator>
  <dc:description/>
  <dc:language>en-US</dc:language>
  <cp:lastModifiedBy>CO-03017689</cp:lastModifiedBy>
  <dcterms:modified xsi:type="dcterms:W3CDTF">2017-03-13T15:10:07Z</dcterms:modified>
  <cp:revision>37</cp:revision>
  <dc:subject/>
  <dc:title>Motion, Speed, Acceleration, and Velocity</dc:title>
</cp:coreProperties>
</file>